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2BE-1681-4936-BBC6-CE6FCFDE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A479-1F47-4E16-9141-49615041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6AFF-A1DD-4706-91B4-C9BF08DA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BAF-B61E-486C-BF50-E0546A74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2A4A-9E71-4F82-8922-DE9B166E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D00F-D7D8-4AB7-BAE7-C06230B3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72B0-7FA7-4D37-AA6B-25615417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25BE-6B23-4AE9-868C-964E2545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FD13-5D8D-4FBB-9D8D-9AED4320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9203-0AEE-451A-AFB6-70A1ADB6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81AE-2CF7-47DA-861B-4E7D36D2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CAF5-EEAC-48FA-9ED9-6D6B1478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84C1-4AB8-49CE-AB05-DFCD7E01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9E0A-CD48-4BA4-AD25-286FABF4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F754-590B-4C5D-81A4-0FB34481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F5EC-E4E6-440D-A70A-32C23697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0E85-CC9E-41DF-95BB-F6C9C3D9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102BB-3702-48E7-ACF6-48F6ED67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C6FCC-2530-45D1-9C13-4301FCD0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97A58-E184-46D6-B314-4F07C860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84B3A-7F9C-46D2-902B-D29CDEAB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B3180-7CA1-4245-9C9B-A8872734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71FC-F1B3-4BC5-B5BB-34377D15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53D83-48D8-4B03-9FA9-94FF1CD9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67AC1-1C58-4891-AE08-EE459D1C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63459-9999-462B-9BB3-35CF8F58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7475D-3F69-441D-BDE4-AF3EEC9F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31EE9-03E2-4068-A1DF-37762D46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82DEE-4DB2-4EED-8ABF-B62BCEA5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FB74C-B266-46E6-8D4A-57F5CEE3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02189-29FE-41F0-B311-73040C59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8D1A7-F6C3-4E83-9BDE-B8172521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6851D-C585-4A58-A35B-E30E4CCB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838-705D-46C9-9FB0-F0457A5F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322AD-A03A-42CA-8DC1-6E5C694F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4DB9B-568F-428A-8E20-BCCA7A63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370CF-53E5-4F33-8F25-B753B5A5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FA09D-64B0-416A-988D-5909A730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A6967-7FDF-4203-A820-3F003A8B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94CDA-2259-4F98-BE63-71D37BB8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1E3BA-A369-4B52-9463-0423B6C2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D80BE-0D2C-4055-8503-6232DF5B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3BDBB-3775-47CF-BD2B-1CD34560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4912-64E5-4FA0-803B-50B2495C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0EF4-3079-4AF8-94FF-E81E7D0D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D40-7077-48FE-B528-E190CA1F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5E2C-9BB8-45A1-B520-6EC8DB7F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AAA1-701C-461E-9271-4B1392D3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AFB4-C60D-4711-BD03-9D20D99EB53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C9BA-DC65-4D92-88FD-E7696DF1B79B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7F13-B659-4272-BEA1-F757BD9D48B4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643E-18F0-463B-B796-8A7CEF24264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219240" y="2816280"/>
            <a:ext cx="8626320" cy="2120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Zambia_crest"/>
          <p:cNvPicPr/>
          <p:nvPr/>
        </p:nvPicPr>
        <p:blipFill>
          <a:blip r:embed="rId2"/>
          <a:stretch/>
        </p:blipFill>
        <p:spPr>
          <a:xfrm>
            <a:off x="3886200" y="533520"/>
            <a:ext cx="1316160" cy="15271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1143000" y="5638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Michael Ngulube, DACO, Chip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Stalin Sichinga, ARO, Z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Challenges cont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904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pre released varieties of the cowpeas are high yielding but not preferred by farme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of dibble stick required more labour. Farmers preferred using a ripper for C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ion between partn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ion between implementers and other stakehol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alendar of events not properly followed (short notice of important meeting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farmers are not able to read and write and therefore miss out on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4617b"/>
                </a:solidFill>
                <a:latin typeface="Arial"/>
                <a:ea typeface="Arial"/>
              </a:rPr>
              <a:t>Possible solution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240" y="129528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per planning in early October for all the field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sign of a calendar of events and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scussion on best ways on flow of funds (CIMMYT and IITA manage one projec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llow up needs to improve (both organizations hired research assistant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5100480" y="2048040"/>
            <a:ext cx="313380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itle 4"/>
          <p:cNvSpPr/>
          <p:nvPr/>
        </p:nvSpPr>
        <p:spPr>
          <a:xfrm>
            <a:off x="1676520" y="2819520"/>
            <a:ext cx="647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Lucida Sans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mbia has an area of 750,000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th about 13 million peopl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90,000 k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land is arabl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ly 14% is cropped in any ye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bout 55 - 60% of the land area is covered by natural for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6% of Zambia’s land surface is covered by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712800" y="5784840"/>
            <a:ext cx="7827840" cy="1079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" descr="regions"/>
          <p:cNvPicPr/>
          <p:nvPr/>
        </p:nvPicPr>
        <p:blipFill>
          <a:blip r:embed="rId2"/>
          <a:srcRect l="3146" t="4460" r="2649" b="5398"/>
          <a:stretch/>
        </p:blipFill>
        <p:spPr>
          <a:xfrm>
            <a:off x="914400" y="838080"/>
            <a:ext cx="731520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NTRODUCTION cont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cial wellbeing and economic development in Zambia is strongly linked with productivity growth in agriculture and sustainable management of farming system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ize is the main staple food crop grown widely in the country and critical for ensuring food security for the po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Constraints in Zambian Farming Systems</a:t>
            </a:r>
            <a:br>
              <a:rPr sz="43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23920" y="1219320"/>
            <a:ext cx="3962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1752480"/>
            <a:ext cx="4268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gative effects of climate 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il degrad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availability of improved varie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ysfunctional input-output mark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ts and dise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imited draft power and farm imple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0" y="365760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1"/>
          <a:srcRect l="0" t="12402" r="0" b="8858"/>
          <a:stretch/>
        </p:blipFill>
        <p:spPr>
          <a:xfrm>
            <a:off x="4724280" y="1219320"/>
            <a:ext cx="4038840" cy="229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9" name="Picture 4" descr="August 23, 2003 (23)"/>
          <p:cNvPicPr/>
          <p:nvPr/>
        </p:nvPicPr>
        <p:blipFill>
          <a:blip r:embed="rId2"/>
          <a:stretch/>
        </p:blipFill>
        <p:spPr>
          <a:xfrm>
            <a:off x="4572000" y="3657600"/>
            <a:ext cx="4191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520" y="456840"/>
            <a:ext cx="84582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o address some constraints in Zambian farming systems, Feed the Future through IITA, is implementing Sustainable Intensification of Maize-Legume Systems for the Eastern Province of Zambia (SIMLEZA) which focus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:  Maize-legume systems agronomy and breed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utrition focus: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ya processing and utilizat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 of national agricultural research system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4617b"/>
                </a:solidFill>
                <a:latin typeface="Arial"/>
                <a:ea typeface="Arial"/>
              </a:rPr>
              <a:t>To address some constraints in Zambian farming systems, Feed the Future through IITA, is implementing</a:t>
            </a:r>
            <a:r>
              <a:rPr b="0" lang="en-US" sz="2700" spc="-1" strike="noStrike">
                <a:solidFill>
                  <a:srgbClr val="002060"/>
                </a:solidFill>
                <a:latin typeface="Arial"/>
                <a:ea typeface="Arial Unicode MS"/>
              </a:rPr>
              <a:t> </a:t>
            </a:r>
            <a:r>
              <a:rPr b="0" lang="en-US" sz="2700" spc="-1" strike="noStrike">
                <a:solidFill>
                  <a:srgbClr val="04617b"/>
                </a:solidFill>
                <a:latin typeface="Arial"/>
                <a:ea typeface="Arial Unicode MS"/>
              </a:rPr>
              <a:t>Sustainable Intensification of Maize-Legume Systems for the Eastern Province of Zambia</a:t>
            </a:r>
            <a:r>
              <a:rPr b="0" lang="en-US" sz="2700" spc="-1" strike="noStrike">
                <a:solidFill>
                  <a:srgbClr val="04617b"/>
                </a:solidFill>
                <a:latin typeface="Arial"/>
                <a:ea typeface="Arial"/>
              </a:rPr>
              <a:t> (SIMLEZA) which focuses</a:t>
            </a:r>
            <a:r>
              <a:rPr b="0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28600" y="2895480"/>
            <a:ext cx="4648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 Maize-legume systems agronomy and breedin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utrition focus: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oya processing and utilization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 of national agricultural research systems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C:\Users\Daniel\Desktop\pics 19 feb\IMG_1878.JPG"/>
          <p:cNvPicPr/>
          <p:nvPr/>
        </p:nvPicPr>
        <p:blipFill>
          <a:blip r:embed="rId1"/>
          <a:stretch/>
        </p:blipFill>
        <p:spPr>
          <a:xfrm>
            <a:off x="4648320" y="2790720"/>
            <a:ext cx="403848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SIMLEZA Project Si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-farm activit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ipata District: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anje and Chiparamba camp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tete District: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fumbwe and Kawalala cam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undazi District: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oya and Vuu cam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-station activit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sekera, GART, Kabwe, Misamfu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5" descr="Eastern_Zambia_districts (2)"/>
          <p:cNvPicPr/>
          <p:nvPr/>
        </p:nvPicPr>
        <p:blipFill>
          <a:blip r:embed="rId1"/>
          <a:srcRect l="711" t="0" r="711" b="0"/>
          <a:stretch/>
        </p:blipFill>
        <p:spPr>
          <a:xfrm>
            <a:off x="4572000" y="2133720"/>
            <a:ext cx="403848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Challeng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gumes selected are at the bottom of the farmers’ priorit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munity is uncertain of the market for the seed to be multiplied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rmers are not aware of the market (outlet) for the produ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rmers largely use the cowpeas leaves as vegetables and not the grain. There is therefore for a market for the gra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quipment for processing is rare and the current one for groundnut processing demands a lot of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9:42:22Z</dcterms:created>
  <dc:creator>HP</dc:creator>
  <dc:description/>
  <dc:language>en-US</dc:language>
  <cp:lastModifiedBy>HP</cp:lastModifiedBy>
  <dcterms:modified xsi:type="dcterms:W3CDTF">2012-10-01T19:42:37Z</dcterms:modified>
  <cp:revision>33</cp:revision>
  <dc:subject/>
  <dc:title>ZAMBIA</dc:title>
</cp:coreProperties>
</file>